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5F12-DDC8-457B-8070-0AAFDA3E5C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D1A8-2128-4003-824A-583FF89B17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E763-88C3-4F80-9CA2-53786C7E45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A192-5D26-4E1B-AF38-E1D5B8FCB1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DEB-C0CC-4937-B18D-4656BAEF5A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4F00-EF8B-4EAC-9505-5A4175B8DE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CE1C-F9E7-4F14-82C9-22E93329FC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2B4-CA7F-4BA1-95D6-BBAFF2DF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193-5E3A-4348-A6B0-D570F21A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488C8-0F14-4CF8-84DB-6FBE2086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516D-67D9-4CC2-A3E2-7431492A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8A575-F5FA-41C0-B895-D64CDF2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943E-69EF-4D66-AF9B-2D6DBCC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2C26E-248B-438C-8621-06017DFA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81AA4-4E78-4745-AE07-1E15CF0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9A237-A5AF-4B0C-9344-727D799D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65243-9CC1-483D-ABAF-ABE3A36E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082F0-214A-404C-9DFA-F868E95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DEB9E-2811-44F7-A1C1-6B8A3494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F71-9A41-4CA3-95B9-A554EA53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12993-4CEB-4DFC-85F9-3932EE4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662A8-ADC9-4F4C-9881-0822D8B2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68EAE-922E-4A64-A6AB-9B71468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6C1D4-7941-4C79-95AA-F35B4742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3F0F5-21CB-4AC1-9C99-B54501A7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CA68A-4649-4647-AA3B-C09DB525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0E49C-2AAF-40D5-B06C-E1B14FE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963E3-D64A-4C2A-B487-9E59461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7C711-2528-42BE-A525-1F2873FF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ECFFB-C811-440B-8159-A8DC6F40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9A9-BD49-4CDE-A8D1-29AE1CA1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7E2BA-86AE-4F42-B491-8BD99833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649FA8-A609-4A83-94FA-1F907BF2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E56803-CD93-478E-B935-0F98CAD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48DD8C-7AC0-46C8-965B-FA313F1A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E7FF87-FC5F-46D6-A3A5-72F1A532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F47F29-A525-4D18-AE30-B9CE6C0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872104-212D-4FD5-8C03-073AA8E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6A0474-53DD-4456-BE0A-668695D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D4150-BF26-4F6B-AFE5-C57D6A31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9EF298-60A1-4BD4-80A9-FC982478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0B26-F680-4D08-9CDB-A7B7286E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04E96B-31B0-4EC2-9E6A-2D823B65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0DA828-054E-4C7C-8823-A2DD3989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F746DE-7D17-4662-BA6E-D04ECF5A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8E5FD-7167-4832-A064-AC27A0F1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1B365-7315-4B1E-A9B0-349930B3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956A1-D69A-4DA8-84BC-CC9D9B60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6DCE7-8BBA-4017-BD6D-8C0FE5E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0F3FB-F6C1-4E85-B14E-0C089D6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C82E0-A35A-42A6-83C5-1A96313F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51E89-7D26-4271-AEBF-1194976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EBE6-D60D-47B7-BCBE-66D5131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C8617-B18A-4879-8C33-4A9542C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B7D5A-EE20-4CA2-88CD-7D2E9040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AAEBA-56C2-4867-B9E3-7202D9F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0E706-0281-4DA4-8079-07C7D263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ABEC9-0C63-447E-9188-BA6E3A23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FA3092-4485-4E02-9716-0B2B0A18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CEB0E5-3DA7-44F1-B801-1CC7DDA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6C8004-F6D3-4E33-97ED-E3FB683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7DACA0-2BA6-455D-99B4-A6958A2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8E3F21-A467-429C-AA34-780B9066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FFBD-25AA-4A97-A304-636C10A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DB4662-1D11-4F50-ABB8-E0455E8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1F102D-FCDF-4369-91AF-69F9889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483CA5-0FF6-42C4-9223-5E6DD944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C20926-6F0F-4FF7-B7C5-E51E4D5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2F17DF-70E8-4A6A-88D7-26A2858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96449A-DEC6-4700-A37E-D830B372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35866-13D2-49A4-BC6B-689AF1CC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64C95-D0AE-47A6-A2B4-3AC42726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C08AB-35FB-42A9-A686-E92A70A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672D6-CD9C-491C-B53C-1A0C2F4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5C6E-B13D-4E5B-BA17-5CAE58E5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CD078-1EAC-4819-9509-3626C758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B2516-7F0F-4A1B-B8BF-4EA50578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46920-D085-4BAD-9409-BEA1BF0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A3EF8-247A-46DC-920D-E7C25D5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4EB87-AFFF-480E-96FF-5C372FF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EF405-31CE-4647-9F76-A52EAF2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869D0-A372-423F-BF5E-3DBA0B2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BCF3B-3050-4CCC-9CDD-A8110C9B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6DCD0-B349-4BF3-B4BC-8264F78A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5A5D3-A928-4CDC-9ECC-A8F1DD1D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6B88-2D00-4882-AF7D-08DF031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6498B-5D0D-435A-B099-C673CA4C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500A0-5B2B-4791-9B67-B03B3426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8BD0B-CEFE-486E-8137-66B29BA1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BFB1B-B0B2-4B3E-B084-93F84D58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ECE55-59C8-45BC-B00B-875056F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69615-9592-4369-A038-FD26480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6DCC7-9BA0-4A01-BCCA-8EF3017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DAD27-52BE-453B-9755-9A4C738C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09E64-B744-4282-865E-1C32BDC8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5A4F2-5986-4E9D-AF6D-46158D54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E5E9-EA5A-4D56-9D97-3C67C849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F06F9-F969-4156-9F14-C42A7153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447FC-DAB4-4F2F-BB02-D59AE16A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53EAE-D435-4C93-A4CA-87435BE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262EE8-C145-429F-93D4-8C9949E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E4F8D-9AAA-4017-8241-0FAFD7C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8A89B-F1B2-4D8A-B747-0B5147E5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6949C-96E3-4BD8-9555-A7AA2332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BEDF5-AD29-40EA-9D6D-8D2E6CF9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FF30B-E2EA-4776-8CDE-18146CC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54050-9B53-4548-84F6-E84DD76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1C58-D257-4891-AED2-45D9A84C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B0A03-8E29-482A-9032-D17F1CAB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9BAA88-74AE-46B7-90BC-2A22C6F4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AB382-BBDA-4EE0-A171-E2E3EB2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6C5CF7-DAC0-4F3B-9308-1405A660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F356D2-B6A9-4DB2-AF2F-8FAC446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4567CA-165F-409D-B629-97014AB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46ED3C-BCDA-4B18-8F89-F78F131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2927A3-1FC4-47E5-8F18-AE5162A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8696E2-CF47-4A01-BCD4-70948F9F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369B98-B19C-4FE6-97B8-7024ED6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FA3-AE91-4F3C-BD71-C3A46F7F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D4FF-1AEB-460B-85E4-19E21BA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036172-67E9-4401-802F-52CB614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ED7343-409F-4013-B7D1-11EB914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1AFE9E-7818-4B9B-BB31-E7BEDEC4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E2DF0D-B6B4-47E2-A3E7-5B79EF7A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A450B5-0968-42FF-9067-CEA6983F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A6FB60-DF79-45DE-B858-AB3AF306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8F1B05-6243-4575-A58E-85C2B4C5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162DA0B-C43E-423C-913C-46056C6E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5F5699-D7BD-4B5A-BAA7-146C0726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FF81D6-46CB-4EEC-86A2-A0E57F63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5F0-8237-4CCB-9A23-DAD07C3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79C65EF-5A55-4DC7-A210-204984A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66F4D4-A136-4DE1-BB2B-E36E561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122A76-0060-4273-91B7-CC97928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E364F74-A525-4C45-9536-F3D139AE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636BFB1-A476-4399-885F-16E25628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4ACF36-D158-415D-94CD-6080B6C5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681132-4CDF-47D1-987B-6B09AC76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744C3-25C1-4277-9AAE-7161D967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2DEF3-8AE1-440B-A86B-9EE2218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E8AF4-7CDD-4F09-AC86-6E25F97D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D220-60D7-453A-955C-E1450638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0F5EC-4949-497F-8D1B-70089A3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E2845C-DEE5-437B-B733-6ECA3C64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D5DDA-6457-4CDF-9F94-FFB71C1C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A00259-2AEE-4DF5-9F6C-6FFC0521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ADD988-19BE-47E6-B53A-7DCBD159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88D9C-C3F7-454B-B009-A6E9C74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665F0-894E-4469-A818-53B814BF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B1750-20B6-4201-9AE1-E92EF8F2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BCC69-18A4-47BB-BE02-F6F3EBBB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A1986-6705-4B20-9B15-97103A9D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D9DB-4BA9-443B-9F31-CBFD70D8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7F46D-4EAD-4235-855D-820307E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044E75-39AC-4C9C-B999-A45B1C87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A197D-68D5-453F-BECA-5BCC4DC0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5ED463-2C69-45D9-879D-5072E0C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D8997-C04A-4A3D-8AFC-B2B9CF4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4D5D9-6E69-4DEC-BCDC-EB7F48B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A9749-9731-49CF-ABAB-0FB9168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C236B-64F3-48F3-9D00-7397126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0EC2CC-6047-4ED6-BE11-D0F67644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0B91B6-4265-4286-88E6-954030F0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7D9-2F6A-46E3-A09A-FC2E5F86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CF0B5-2C47-40D0-88B5-928728F4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E2201-B1FB-498F-B849-12287D57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5D23D4-0EBB-493C-9840-6DE6F41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30AC4-93F0-41B9-9986-4D823C6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80F8E-BF11-4D97-90C9-30EE8CC9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4113B-7CB0-434A-85C7-7E9FB6B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C5A5B-6524-4228-8B2B-79B29F3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7B74C2-A283-4BE1-8F18-C3C627A8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1221B-FEB3-4A1E-9A9F-71C5B5E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05BE25-7DFB-4166-AAC8-82853D3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9572-CEFD-4332-B8B5-3E840BF3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53A42-D026-4A33-A5B2-45D42023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B0ACA-DF12-41D9-A1FF-53D03BA3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CC67F-C65C-45F4-B979-DF6E9AE6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ACDD18-4320-469B-A4C2-C8C4CC2F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F3AED-9E7E-4C72-8EEA-5C037C0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384F2-8B5B-4A7B-95EC-152BC6A1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6983C-FD6B-49F7-B3AB-0DBFA386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49FBD2-E1CE-468C-98DD-2D1E40A6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C106BE-CCEF-4823-A461-0BF2E0A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63A481-B8CF-43F5-8FF6-794DB41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DACB-75C0-4C72-87B7-FF920549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275BF0-3DE5-4D75-85BA-531F84E0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03A694-0757-41AF-B21C-91CC8C0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9EFCDC-CB35-401D-9E99-26EE0F3B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8CD7FE-527D-4547-89B5-992454EC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F01F0A-5D23-44F6-9911-EBD31EF8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302F44-7365-4C52-A5D0-1A15C8DC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1DC01A-C6BF-4FAC-BCF0-1821E1A8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42CDC6-B2A6-4169-AF39-CB49306F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B5DBFC-C665-4124-8D65-129DD9D7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B6E46-5463-41BD-AC83-60BB62B3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D7C7-C51F-4FF5-8861-955AC933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97B7D-E913-4BDE-A809-F62D0403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3E0C91-5666-432F-95E9-56A56EE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D484EF-DB5B-416E-A882-3B0994B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9C1BDF-3068-459F-AC2A-90D59E6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220817-F5CC-4F39-AD1E-203AD67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CF3D2B-A3BC-41B6-B7D3-580EB10F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AF309-601C-4653-AEAB-8BC310FA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90349F-2E15-440A-9798-4B568A1F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5B673B-8655-448C-9521-8B3079E0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E56AEC-7F13-4795-B197-8D5D6F18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0A64-5A62-4C1C-A7E7-4D28D360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CBEFCA-DDBC-4CC3-A6DB-8A48241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5840FC-7774-4C0F-B437-52A157F5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0FF1E3-A127-434F-8F83-320ECF5A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8558EF-DEF6-44B6-BF3A-B79C58F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151C75-825F-4E59-8510-6B41E58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C693A5-56AF-46B9-ABB2-3523114F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347C09-9D87-47EF-AE55-A2C35AF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75AEEE-F97D-4454-9EC7-CFA276B2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DABC6A-FC5C-4444-B62F-7FA94074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74D10D-C606-43BE-8BB3-7446953B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0138-AEA0-4C28-AA02-BCC08CD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2C167F-8D40-41C6-A875-6039A10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D966E0-77A2-4BCB-809B-2D2178CD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6A5309-1043-44EA-AA66-A529F9BC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609F54-E7DC-47D8-9F1C-78436D0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B3CF1-1B22-4637-B385-390CE969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1B6160-9358-4F9B-8385-111ADE3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4FFC9A-8CD9-4F61-8EB4-0204482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359606-38C7-4A38-8895-37BDD5B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5B2707-27DD-48FC-A9EE-843D955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A045F1-468E-4C1F-BB9B-1DCE9BE7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A33-141C-4A67-A877-976AD96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CAED-D88F-48E8-8FCF-F5A2B8C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472F52-11F6-4D72-97CA-762FC911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2FD8-4DDB-4524-A215-6F38F6B8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4281-EE48-475F-ABDE-0DD0DC65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2A0B-6CFE-4C6B-BA26-CBCF911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3F68-D0BD-4AAC-872B-2DF0BD7E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EF20-C1A5-4895-9ACB-54FCD3D2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FB40-B48D-4158-B057-E4287E16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F3F2-C5D7-4FB1-A507-4BB01D6E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3492-0337-49B4-934F-8A71FAE5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5D6BE-2686-4BDD-A898-D9CB2D5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B40-70CF-449A-9658-BF90144C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6AAB-11C4-4290-A17D-5671A371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5BF9-E978-483A-A674-CCF3D46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5B1D-7670-4665-A9C0-FDEABAE7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808A3-C2C3-4E5B-8AA9-CCE66D5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D2A1-704A-4903-B1C0-A3D352F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6BEE-19EB-40CC-8D23-4FC6A4E1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56BB3-3706-4A89-97CD-A550A06A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66D1-C375-47F7-918A-3229C19B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E379-5752-4B9B-9482-A7C05196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57BC-3E01-4FCA-B08A-6F5537AD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1A0-2075-4359-986C-928FFCC1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DBFEA-05E5-483E-92D0-3FC71EEA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0791D-0A78-40E9-88AE-48C4E532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F209-46E0-44D2-8756-8968803D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82DD-52EB-4E8E-9CCA-1BF56313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5CFE-D00F-4F3D-B26F-669B36B0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716C-F6A0-496E-B380-D806E32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E5C3-9925-4655-9234-42B7211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9DC07-DEF9-4E30-B53F-C044BC1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88547-1D4D-4F38-B9B2-48C758A5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DAB87-041C-4FCA-BCE0-74AD26B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D65-BC80-491D-87EB-C7A8050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AD28-03F8-4D95-8462-442C31AC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E994-54C1-4A41-8477-67F29B90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0CFC6-D0F0-4E32-A775-19862D6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0B49-BF6C-47FC-A1CC-772D00F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AF8C7-996B-4CCB-B749-8A84B50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585D-3CBF-48B1-8734-9EA16375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9BDA-6BF1-4A3C-AF0A-9EE97AF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D0079-5876-4482-BA62-A324F84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90CB-F06B-4BE6-9CE4-70F15A5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5BD7-4573-4136-8B46-A4FE21B8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1F9-142F-416E-BC8B-5D43D81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4DCD0-345E-4F68-B453-B7AF4DB2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83B5-AB80-46F7-814F-7B568731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353E-C803-44A1-94E3-A9EF6621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8720C-FFAD-4EC3-8C57-62E7F8FC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70A3-2E30-4D1E-9BF3-BBE607A1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2885-AE0C-41EA-8F75-BC1B4EE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700F-B902-410B-AE2D-098F04B8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56D96-0F18-4C1B-B23B-ED08CA43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4A4F6-4242-465A-B49A-952E05C7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E2C4C-07BF-4E0C-AB55-9D544D6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49E-C5A4-44C6-9A5E-5C8E553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7A507-188C-4512-BE54-9179C9E9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9202-3CAD-4D08-A0C5-FBD4DFA0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C30F-0444-474F-8C54-6CDCCAD3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0224-2854-4D9B-8162-ABE5B640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98C23-CC6D-4586-A7E1-E334A73A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CCE2-2ADA-4D91-8289-BE41B4FB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E6D99-5AD0-4EED-8E06-C6DB7A5E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E75A1-D136-4C64-A415-22F92D3A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14B26-B938-45B4-9FBF-FD7676F0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1635B-3A2B-4743-B290-B3137BF9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462-5711-497B-97F7-6227A39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C18B-279D-47FF-896B-74F62028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9D7D1-E370-46B1-AFCD-6707463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E1948-9893-45F1-BBA7-F2A212C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7899C-91C1-487F-847A-6F2699EE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F991B-C176-4A03-82F9-16C3050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40CBF-A2F3-416D-84B7-75403624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36C6-0FBE-4346-9794-E5741C74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F872-4686-4EED-BC81-766D3777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12615-DAA4-4FD9-98F3-66F3D4B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4553F-52D0-430A-90FA-D5703A62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038-BD47-4A68-BB47-A031EE9D62ED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1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E692-32B8-475E-9A90-15FDE6AE74E5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9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32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D35-4646-4BD2-8457-ABEBD7A807AF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ftr" idx="33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0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05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475E-855A-4E12-B370-3BD89652071D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sldNum" idx="3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083-A9D8-4A20-B2E4-F7FE2DEFC40A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3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0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92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D9AF-D4C7-4942-A79F-7E40FF1B3D20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3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37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F6F-1E76-40B5-81ED-1B4120E7F926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8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683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18C4-72DF-4F49-8AE0-D70932B7873B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7B66-3752-46A7-9D00-9A3AB5A48510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ftr" idx="5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53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5562-CA51-4F55-8CFC-F407560EF0EE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ftr" idx="54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5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6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7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F487-AE96-48C9-B2BC-35817323E30A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F36-F75B-4710-859E-57784BFB1C92}" type="slidenum">
              <a:rPr b="0" lang="en-A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58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59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60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142D-85AE-4F8F-BC70-76B9C947E56D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DDF0-7556-4C6A-94D9-BC13E2D88786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6A7-2E63-4398-8CDC-72959533DFBC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1A8D-3B7D-4644-BD55-D9B7F55C1D27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 type="dt" idx="7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 type="ftr" idx="7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 type="sldNum" idx="7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A1FA-EB38-4FF3-9E7B-FF9CBE57FD1B}" type="slidenum">
              <a:rPr b="0" lang="en-AU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dt" idx="7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ftr" idx="7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sldNum" idx="7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AC2A-F1B1-4CDB-B303-1AA72F222BBC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3004-5CA0-4916-A206-9897D8C380B2}" type="slidenum">
              <a:rPr b="0" lang="en-A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7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13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4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14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9BB-33AA-4B32-A2FB-08B55190CA1C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5FBE-6F49-4578-8AC6-95AAE374BD8E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9FAB-8B1F-4E84-AB05-DCDA5F49E74E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4084-65E3-47D5-AE5C-5AD94C94A02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9ED6-E14C-4B1C-B962-B6DB40DC83F3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1A8F-1C0A-4860-A131-9DFF96C89A42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4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image" Target="../media/image17.jpeg"/><Relationship Id="rId4" Type="http://schemas.openxmlformats.org/officeDocument/2006/relationships/image" Target="../media/image27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image" Target="../media/image19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17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3440" cy="1841400"/>
          </a:xfrm>
          <a:prstGeom prst="rect">
            <a:avLst/>
          </a:prstGeom>
          <a:ln w="0">
            <a:noFill/>
          </a:ln>
        </p:spPr>
      </p:pic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3263c"/>
                </a:solidFill>
                <a:latin typeface="Lucida Sans Unicode"/>
              </a:rPr>
              <a:t>Australian Marsupi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25" name="Picture 3" descr="0GVZCA6AD1F8CAZTC5O4CAWMAJMDCASY3BRACAA63KNNCAB18R01CAM8ZVF5CA3ICSN1CAKA39QUCAXTHBU4CAX50SGKCAGHWS6ACAH82GCXCABLA8C2CAKFU9SQCA8C04RRCASC7F31CACPG96WCAYVXNJH.jpg"/>
          <p:cNvPicPr/>
          <p:nvPr/>
        </p:nvPicPr>
        <p:blipFill>
          <a:blip r:embed="rId2"/>
          <a:stretch/>
        </p:blipFill>
        <p:spPr>
          <a:xfrm>
            <a:off x="0" y="0"/>
            <a:ext cx="2286000" cy="24573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5Z3XCA2KBA7GCA77MKM9CAMFOK96CAU1LWW4CAEJN495CAXC0X4UCAFINHKOCAPW5LNUCAQ1VTI7CA3YB7ENCA0L6728CACJMLCDCAATH6ALCABHC9HSCAVMBNHKCAC6KZZLCAXIC3BMCA23390QCAZADO43.jpg"/>
          <p:cNvPicPr/>
          <p:nvPr/>
        </p:nvPicPr>
        <p:blipFill>
          <a:blip r:embed="rId3"/>
          <a:stretch/>
        </p:blipFill>
        <p:spPr>
          <a:xfrm>
            <a:off x="2357280" y="0"/>
            <a:ext cx="2095560" cy="2428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5" descr="9OL9CAX3WTEBCAOUXWZOCATH6048CAHZCCE9CAB1DMAECABAB1AGCA3JAAVTCAH55Y26CAPC1FSGCA3I5QRRCARCQ7EXCA7I57EJCA6LXHBACA13ZOJXCAGF8175CAVYKRNFCAS6AYW4CAXQP92ICAMMVH4P.jpg"/>
          <p:cNvPicPr/>
          <p:nvPr/>
        </p:nvPicPr>
        <p:blipFill>
          <a:blip r:embed="rId4"/>
          <a:stretch/>
        </p:blipFill>
        <p:spPr>
          <a:xfrm>
            <a:off x="4500720" y="0"/>
            <a:ext cx="1812600" cy="24289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6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5"/>
          <a:stretch/>
        </p:blipFill>
        <p:spPr>
          <a:xfrm>
            <a:off x="6354720" y="0"/>
            <a:ext cx="2789280" cy="24289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7" descr="2L8PCAL7JANCCAQZGRFOCA142FFECA4ROJTJCALA20DVCACN811OCAFKM38LCA0QX7WSCA8VHT0ACASXFJ2BCA9DUSC0CA2Q6XILCAWMNT3XCA7CXF05CA4TMCK2CAIH1T0CCA05PJVJCA99HUQICA2YFXW8.jpg"/>
          <p:cNvPicPr/>
          <p:nvPr/>
        </p:nvPicPr>
        <p:blipFill>
          <a:blip r:embed="rId6"/>
          <a:stretch/>
        </p:blipFill>
        <p:spPr>
          <a:xfrm>
            <a:off x="0" y="4964040"/>
            <a:ext cx="2357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1" descr="MNV7CA20UBXOCANCL6IFCAV974NXCA154FT6CAFI620UCAKOYJ93CAZDOS4ECANLXMAMCA4W4NHKCARKVZZGCAR9E6DDCA646142CA3NB3BUCAQTV81KCAPX0YEZCASZY7YUCA1PDM88CAB5DUYDCADD1XFQ.jpg"/>
          <p:cNvPicPr/>
          <p:nvPr/>
        </p:nvPicPr>
        <p:blipFill>
          <a:blip r:embed="rId1"/>
          <a:stretch/>
        </p:blipFill>
        <p:spPr>
          <a:xfrm>
            <a:off x="0" y="3814920"/>
            <a:ext cx="3071880" cy="30430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5Z3XCA2KBA7GCA77MKM9CAMFOK96CAU1LWW4CAEJN495CAXC0X4UCAFINHKOCAPW5LNUCAQ1VTI7CA3YB7ENCA0L6728CACJMLCDCAATH6ALCABHC9HSCAVMBNHKCAC6KZZLCAXIC3BMCA23390QCAZADO43.jpg"/>
          <p:cNvPicPr/>
          <p:nvPr/>
        </p:nvPicPr>
        <p:blipFill>
          <a:blip r:embed="rId2"/>
          <a:stretch/>
        </p:blipFill>
        <p:spPr>
          <a:xfrm>
            <a:off x="6000840" y="0"/>
            <a:ext cx="3143160" cy="3643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3429000" y="5000760"/>
            <a:ext cx="2274840" cy="18572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DV21CA4LG632CAFVM664CAHK8JTHCAU0J53HCAZX0SYYCAJZI2SDCAGTLT48CANNZTH3CAEY5C4SCARJQHQVCAZ81P1DCAWKGZ8TCACZ9UJNCAB59YG3CAGEBH5QCAGECV02CA4A8PKMCA4AK3IFCA24XY6K.jpg"/>
          <p:cNvPicPr/>
          <p:nvPr/>
        </p:nvPicPr>
        <p:blipFill>
          <a:blip r:embed="rId4"/>
          <a:stretch/>
        </p:blipFill>
        <p:spPr>
          <a:xfrm>
            <a:off x="3571920" y="3500280"/>
            <a:ext cx="2071800" cy="13971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5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5"/>
          <a:stretch/>
        </p:blipFill>
        <p:spPr>
          <a:xfrm>
            <a:off x="0" y="0"/>
            <a:ext cx="3773520" cy="3286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6" descr="2OPECA1JN9MTCAC0ISQ4CAK623B2CAH8GMH9CAQNMZFICAS6UULZCAGRVY9OCAO3VVKXCAUN2LCVCAJ8DTTWCACP9ZR9CA2QXCBPCAP884BQCAMR2CZKCAWSRP47CAXXAWHFCA14SSL9CASDZQ50CACRMA19.jpg"/>
          <p:cNvPicPr/>
          <p:nvPr/>
        </p:nvPicPr>
        <p:blipFill>
          <a:blip r:embed="rId6"/>
          <a:stretch/>
        </p:blipFill>
        <p:spPr>
          <a:xfrm>
            <a:off x="4143240" y="214200"/>
            <a:ext cx="1343160" cy="9050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8" descr="2OPECA1JN9MTCAC0ISQ4CAK623B2CAH8GMH9CAQNMZFICAS6UULZCAGRVY9OCAO3VVKXCAUN2LCVCAJ8DTTWCACP9ZR9CA2QXCBPCAP884BQCAMR2CZKCAWSRP47CAXXAWHFCA14SSL9CASDZQ50CACRMA19.jpg"/>
          <p:cNvPicPr/>
          <p:nvPr/>
        </p:nvPicPr>
        <p:blipFill>
          <a:blip r:embed="rId7"/>
          <a:stretch/>
        </p:blipFill>
        <p:spPr>
          <a:xfrm>
            <a:off x="4143240" y="2428920"/>
            <a:ext cx="1343160" cy="904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0" descr="GQVYCA6MLQSACA5CM54ACANTR11VCAU95RTCCAWUOM4LCAC8BV4BCAWKHZ7MCAJFXSD7CAPQBNKDCA13SUN9CA2BUWCGCA540LA8CALJF80LCAC6YQF1CAMTKV48CAYP85SRCALZOCW0CADGWQ3SCAFLBLAZ.jpg"/>
          <p:cNvPicPr/>
          <p:nvPr/>
        </p:nvPicPr>
        <p:blipFill>
          <a:blip r:embed="rId8"/>
          <a:stretch/>
        </p:blipFill>
        <p:spPr>
          <a:xfrm>
            <a:off x="6072120" y="378612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3" descr="IO5SCAIU8TPLCA79QA5TCAXZCGSYCA44NQEQCAW2AQL0CA0U68LCCA802Q3OCAYOFTR2CA4UQNDYCAW0SY2VCAMAGJ6RCAXP33PYCAOQV2M5CANIZ5EWCARB74NYCA3K0VATCADK1SRPCA3JV0XYCAZ62LRY.jpg"/>
          <p:cNvPicPr/>
          <p:nvPr/>
        </p:nvPicPr>
        <p:blipFill>
          <a:blip r:embed="rId9"/>
          <a:stretch/>
        </p:blipFill>
        <p:spPr>
          <a:xfrm>
            <a:off x="4143240" y="1357200"/>
            <a:ext cx="13575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64653"/>
                </a:solidFill>
                <a:latin typeface="Bookman Old Style"/>
              </a:rPr>
              <a:t>Australian Marsupia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he predominant Australian native mammals are marsupial mammal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Gill Sans MT"/>
              </a:rPr>
              <a:t>These mammals have evolved strategies that equip them for successful reproduction in Australian conditio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41" name="Picture 3" descr="7X1NCAQD2MZ2CA8WYZE3CA632LJOCAWGX6BYCAJ7T709CAS2FQPUCA7EFRTACACYKGP1CAWJP1SPCA12XCAJCASLBUPVCA3BNE0ICAH8RB81CAZPL9OYCA9CUY68CAYA0JWGCASMHUUJCAJT8RE7CAD61RVZ.jpg"/>
          <p:cNvPicPr/>
          <p:nvPr/>
        </p:nvPicPr>
        <p:blipFill>
          <a:blip r:embed="rId1"/>
          <a:stretch/>
        </p:blipFill>
        <p:spPr>
          <a:xfrm>
            <a:off x="2928960" y="4357800"/>
            <a:ext cx="2876400" cy="22431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2"/>
          <a:stretch/>
        </p:blipFill>
        <p:spPr>
          <a:xfrm>
            <a:off x="214200" y="4419720"/>
            <a:ext cx="2428920" cy="21142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5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6338880" y="4429080"/>
            <a:ext cx="25956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rsupial embryos develop in the uterus for a very short period only and are born at a very immature stage of develop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e newborn climbs into its mother’s pouch where it attaches to a nipple and continues to development over an extended perio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45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3" descr="4K25CAYTHI15CA8UYYJ3CA0HTRNCCAFL1LH1CA14SBPNCAS3VWPICARSP54ICA1CMRZ3CA1XUT8NCAGKC1FQCAJ94Q4MCAFCM63OCAHUEBIXCAJ1DFF6CAGJHIJWCACT6UDFCA96VSYJCAIHITD3CA2763N0.jpg"/>
          <p:cNvPicPr/>
          <p:nvPr/>
        </p:nvPicPr>
        <p:blipFill>
          <a:blip r:embed="rId2"/>
          <a:stretch/>
        </p:blipFill>
        <p:spPr>
          <a:xfrm>
            <a:off x="214200" y="4738680"/>
            <a:ext cx="2571840" cy="19242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4" descr="6W57CAYEW659CA03POPHCAA8WF7LCA2WIUJYCA2GISVDCAQPJYS5CA7ZO8RQCASFB3UZCA47EZHVCAXZUEL6CAA4NVTWCAXGM9JRCAH34K7GCAL3PDF3CA1EI23GCA1BCSP1CANZE5NUCA9KMPO5CA41QCU1.jpg"/>
          <p:cNvPicPr/>
          <p:nvPr/>
        </p:nvPicPr>
        <p:blipFill>
          <a:blip r:embed="rId3"/>
          <a:stretch/>
        </p:blipFill>
        <p:spPr>
          <a:xfrm>
            <a:off x="3286080" y="4714920"/>
            <a:ext cx="2500200" cy="18460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5" descr="DV21CA4LG632CAFVM664CAHK8JTHCAU0J53HCAZX0SYYCAJZI2SDCAGTLT48CANNZTH3CAEY5C4SCARJQHQVCAZ81P1DCAWKGZ8TCACZ9UJNCAB59YG3CAGEBH5QCAGECV02CA4A8PKMCA4AK3IFCA24XY6K.jpg"/>
          <p:cNvPicPr/>
          <p:nvPr/>
        </p:nvPicPr>
        <p:blipFill>
          <a:blip r:embed="rId4"/>
          <a:stretch/>
        </p:blipFill>
        <p:spPr>
          <a:xfrm>
            <a:off x="6072120" y="4857840"/>
            <a:ext cx="2643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Marsupials use a ‘stay-on-the-nipple’ approach whereas placental mammals use a ‘stay-in-the-uterus-for-longer’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All mammals (monotreme, marsupial, and placental) produce milk for the nutrition of their you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0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3" descr="IIFHCAP1C0YFCAED22TKCA81EDNRCA9D2T5OCAGKOIPGCAC039ASCAJ5KAASCAQ4HFLFCAJRG16VCAR2W1SQCAEPZGT3CAG8GSQ3CAB0RU5UCAWX8IFPCAI3VSSPCAXYCDV0CAPI9Y4ACAAEJZPVCA8PNCNA.jpg"/>
          <p:cNvPicPr/>
          <p:nvPr/>
        </p:nvPicPr>
        <p:blipFill>
          <a:blip r:embed="rId2"/>
          <a:stretch/>
        </p:blipFill>
        <p:spPr>
          <a:xfrm>
            <a:off x="5214960" y="4572000"/>
            <a:ext cx="1571760" cy="20685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4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285840" y="478008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5" descr="W6PLCACDD81JCA8A9O8SCAMFJX7KCA3B7RYFCA39PEW4CAP4HFX4CAGF1PUVCAI5P7URCA2TH0BSCAUYAXV8CA0MN6AOCAW4VGIHCAQ48J9ACAQXDHUGCADKPW1DCAAFRVR5CAKKXXJXCAAWAL6HCACTSE3D.jpg"/>
          <p:cNvPicPr/>
          <p:nvPr/>
        </p:nvPicPr>
        <p:blipFill>
          <a:blip r:embed="rId4"/>
          <a:stretch/>
        </p:blipFill>
        <p:spPr>
          <a:xfrm>
            <a:off x="7143840" y="4232160"/>
            <a:ext cx="1724040" cy="24066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6" descr="D1CYCAKDFQEECAEL2AMKCA14O3V9CAW53578CAVT1KEUCA6H3JAPCA4852JSCA0H3YHECAGAFLD0CAG05R7ICAM7MX82CAOTOFZSCAIPV2HNCALIXC0DCAGBZESFCA8Q89PUCAM17IE7CA22XAJ2CABD32O6.jpg"/>
          <p:cNvPicPr/>
          <p:nvPr/>
        </p:nvPicPr>
        <p:blipFill>
          <a:blip r:embed="rId5"/>
          <a:stretch/>
        </p:blipFill>
        <p:spPr>
          <a:xfrm>
            <a:off x="2786040" y="4740120"/>
            <a:ext cx="21430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57120" y="34999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Kangaroos and wallabies can also suspend embryonic develop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mediately after giving birth and having a young in the pouch, a female kangaroo conceives again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6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3" descr="W6PLCACDD81JCA8A9O8SCAMFJX7KCA3B7RYFCA39PEW4CAP4HFX4CAGF1PUVCAI5P7URCA2TH0BSCAUYAXV8CA0MN6AOCAW4VGIHCAQ48J9ACAQXDHUGCADKPW1DCAAFRVR5CAKKXXJXCAAWAL6HCACTSE3D.jpg"/>
          <p:cNvPicPr/>
          <p:nvPr/>
        </p:nvPicPr>
        <p:blipFill>
          <a:blip r:embed="rId2"/>
          <a:stretch/>
        </p:blipFill>
        <p:spPr>
          <a:xfrm>
            <a:off x="428760" y="1216080"/>
            <a:ext cx="1428480" cy="19936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4" descr="2OPECA1JN9MTCAC0ISQ4CAK623B2CAH8GMH9CAQNMZFICAS6UULZCAGRVY9OCAO3VVKXCAUN2LCVCAJ8DTTWCACP9ZR9CA2QXCBPCAP884BQCAMR2CZKCAWSRP47CAXXAWHFCA14SSL9CASDZQ50CACRMA19.jpg"/>
          <p:cNvPicPr/>
          <p:nvPr/>
        </p:nvPicPr>
        <p:blipFill>
          <a:blip r:embed="rId3"/>
          <a:stretch/>
        </p:blipFill>
        <p:spPr>
          <a:xfrm>
            <a:off x="2143080" y="1285920"/>
            <a:ext cx="2827440" cy="190512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" descr="NSKXCAKCHEL6CAR6M0T3CALBU2SCCAVNQUH8CA061QHVCAKEIB3UCAXRIA77CAZUZUTSCASKOHNACAHDXWM4CAPFZEA5CAA84DWJCAREKWSGCABMV96BCAKRNF48CAUXVEONCA4ZCTJ0CA3SXZ03CAJ6RJIA.jpg"/>
          <p:cNvPicPr/>
          <p:nvPr/>
        </p:nvPicPr>
        <p:blipFill>
          <a:blip r:embed="rId4"/>
          <a:stretch/>
        </p:blipFill>
        <p:spPr>
          <a:xfrm>
            <a:off x="5143680" y="1214280"/>
            <a:ext cx="1550880" cy="20574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6" descr="POF2CAL7K3ESCAIK11IFCATS2Q2UCAYFICZPCAOBZ83NCAVBKXKRCAJKDDBSCAJQ7A9JCAY7C5DCCAN4EXX2CAJ6OKDVCA70LUGLCAPWBIN0CAE06PM7CAU3YXXECAH8TO03CA2IET2UCAUCPXVFCA2WYK0F.jpg"/>
          <p:cNvPicPr/>
          <p:nvPr/>
        </p:nvPicPr>
        <p:blipFill>
          <a:blip r:embed="rId5"/>
          <a:stretch/>
        </p:blipFill>
        <p:spPr>
          <a:xfrm>
            <a:off x="6715080" y="1643040"/>
            <a:ext cx="22845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This young’s development is suspended while the other joey is still feeding on the nipples in the mother’s pou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Reproduction in kangaroos and wallabies is influenced by environmental condi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62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74200" cy="115884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3" descr="4K25CAYTHI15CA8UYYJ3CA0HTRNCCAFL1LH1CA14SBPNCAS3VWPICARSP54ICA1CMRZ3CA1XUT8NCAGKC1FQCAJ94Q4MCAFCM63OCAHUEBIXCAJ1DFF6CAGJHIJWCACT6UDFCA96VSYJCAIHITD3CA2763N0.jpg"/>
          <p:cNvPicPr/>
          <p:nvPr/>
        </p:nvPicPr>
        <p:blipFill>
          <a:blip r:embed="rId2"/>
          <a:stretch/>
        </p:blipFill>
        <p:spPr>
          <a:xfrm>
            <a:off x="642960" y="3147840"/>
            <a:ext cx="2214720" cy="165744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4" descr="93VECAPRLVQJCAG4ZNW4CAAFWA6LCAK2HM87CAA0NCO3CASST1FECAVD4KAHCAJVCL9OCAF1V0C1CATMG0UMCA8AKW6FCACCP7OKCANTLEUECA7E3JBFCAH9HGHICAQL4LSOCAXAYLZVCANRBOALCATJVEN1.jpg"/>
          <p:cNvPicPr/>
          <p:nvPr/>
        </p:nvPicPr>
        <p:blipFill>
          <a:blip r:embed="rId3"/>
          <a:stretch/>
        </p:blipFill>
        <p:spPr>
          <a:xfrm>
            <a:off x="3143160" y="3187800"/>
            <a:ext cx="1928880" cy="15746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5" descr="UK30CAV69FWHCARSW1EBCAWNAEWDCAVCHXA8CAQKC89VCAY05DTLCAYEELZ6CAA3A1OGCA7MH4ILCAFVZ1FCCA1JFYH0CAYRN2MECA08M5NGCAJC8MYTCAN5UV1WCAL1VCDRCA25FF9HCAW0500MCAZJMO20.jpg"/>
          <p:cNvPicPr/>
          <p:nvPr/>
        </p:nvPicPr>
        <p:blipFill>
          <a:blip r:embed="rId4"/>
          <a:stretch/>
        </p:blipFill>
        <p:spPr>
          <a:xfrm>
            <a:off x="5357880" y="3236760"/>
            <a:ext cx="1928880" cy="14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0:32:17Z</dcterms:created>
  <dc:creator>Lyn Clarkson</dc:creator>
  <dc:description/>
  <dc:language>en-US</dc:language>
  <cp:lastModifiedBy>Lyn Clarkson</cp:lastModifiedBy>
  <dcterms:modified xsi:type="dcterms:W3CDTF">2007-09-12T00:05:32Z</dcterms:modified>
  <cp:revision>7</cp:revision>
  <dc:subject/>
  <dc:title>Reproductive Strategies</dc:title>
</cp:coreProperties>
</file>